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19.png" ContentType="image/png"/>
  <Override PartName="/ppt/media/image17.png" ContentType="image/png"/>
  <Override PartName="/ppt/media/image14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12A6-AFD3-4B2D-A824-C6CA5C2A3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CB95-EBAF-4FEE-991E-EC5B552D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80BB-8990-44D1-9C21-FE880A74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8FA2-F75D-4FAD-AE0F-91F23EA71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567A-39FB-43CD-8B20-BBE1FBAA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4A1B-A343-4FF4-840D-9DCFC27B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B940-D419-44FC-9721-AF6384B1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CE82-FC87-4FD0-9942-EB621CAF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4BBC-3F34-44BC-8D4F-C001AE1B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48BF-8CA9-466C-89A7-645A789E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9695-762A-4DF4-9A2E-688E9546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66F7-62B2-468E-8F9D-24EF94DC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DEAF-60D7-4857-B6B7-04BFA241C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111240"/>
            <a:ext cx="8120160" cy="6746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03280" y="62064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wcard Gothic"/>
              </a:rPr>
              <a:t>The Vik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agabond"/>
              </a:rPr>
              <a:t>What were their goal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1066680"/>
            <a:ext cx="481356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dfc08d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c08d"/>
                </a:solidFill>
                <a:latin typeface="Vagabond"/>
              </a:rPr>
              <a:t>Unlike many other invaders in history, the vikings weren’t trying to spread their religion –they were pag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dfc08d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c08d"/>
                </a:solidFill>
                <a:latin typeface="Vagabond"/>
              </a:rPr>
              <a:t>They had to find food, live off the land, and set up sho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dfc08d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c08d"/>
                </a:solidFill>
                <a:latin typeface="Vagabond"/>
              </a:rPr>
              <a:t>They drove people out and took any valuables they h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dfc08d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c08d"/>
                </a:solidFill>
                <a:latin typeface="Vagabond"/>
              </a:rPr>
              <a:t>Vikings targeted the church and monasteries because they were the major sources of wealth at the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5880" y="1219320"/>
            <a:ext cx="2544840" cy="3504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940360" y="479736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Vagabond"/>
              </a:rPr>
              <a:t>A depiction of what a Viking looked lik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agabond"/>
              </a:rPr>
              <a:t>Viking Long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1295280"/>
            <a:ext cx="533232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We know about how their ships were built because Viking burials often included their valuables – some were buried with their boa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They had swift wooden </a:t>
            </a:r>
            <a:r>
              <a:rPr b="0" lang="en-US" sz="2400" spc="-1" strike="noStrike" u="sng">
                <a:solidFill>
                  <a:srgbClr val="ffcc66"/>
                </a:solidFill>
                <a:uFillTx/>
                <a:latin typeface="Vagabond"/>
              </a:rPr>
              <a:t>long ships,</a:t>
            </a: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 powered by sails and o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The shallow drought of these ships meant they were able to travel inland by river or stream to attack before local forces could respo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010200" y="1268280"/>
            <a:ext cx="2544840" cy="3384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372360" y="4653000"/>
            <a:ext cx="220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Vagabond"/>
              </a:rPr>
              <a:t>Figureheads on ships were  raised at stem and stern as a sign of w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agabond"/>
              </a:rPr>
              <a:t>Viking Long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1341360"/>
            <a:ext cx="75596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Ships had overlapping planks, and measured between 17.5m and 36m in lengt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They were steered by a single oar mounted on the starboard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Went as fast as 10 to 11 kn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Crews of 25 to 60 were common, but larger ships could carry over a hundred peo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Sea battles were rare. They fought close to shor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Ships were roped together in lines to face an enemy fle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81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agabond"/>
              </a:rPr>
              <a:t>Domestic Bo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858920" y="981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cc66"/>
                </a:solidFill>
                <a:uFillTx/>
                <a:latin typeface="Vagabond"/>
              </a:rPr>
              <a:t>For fishing</a:t>
            </a:r>
            <a:r>
              <a:rPr b="0" lang="en-GB" sz="2400" spc="-1" strike="noStrike">
                <a:solidFill>
                  <a:srgbClr val="ffcc66"/>
                </a:solidFill>
                <a:latin typeface="Vagabond"/>
              </a:rPr>
              <a:t> - Boats were small shallow vessels used to catch fish in rivers, lakes and fj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cc66"/>
                </a:solidFill>
                <a:uFillTx/>
                <a:latin typeface="Vagabond"/>
              </a:rPr>
              <a:t>For trading</a:t>
            </a:r>
            <a:r>
              <a:rPr b="0" lang="en-GB" sz="2400" spc="-1" strike="noStrike">
                <a:solidFill>
                  <a:srgbClr val="ffcc66"/>
                </a:solidFill>
                <a:latin typeface="Vagabond"/>
              </a:rPr>
              <a:t> -  Heavy ships or knorrs were trading vessels used for carrying cargo to trade with other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47640" y="1916280"/>
            <a:ext cx="3594240" cy="41148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459640" cy="49341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Vagabond"/>
              </a:rPr>
              <a:t>Viking </a:t>
            </a:r>
            <a:r>
              <a:rPr b="0" lang="en-GB" sz="4000" spc="-1" strike="noStrike" u="sng">
                <a:solidFill>
                  <a:srgbClr val="ffcc66"/>
                </a:solidFill>
                <a:uFillTx/>
                <a:latin typeface="Vagabond"/>
              </a:rPr>
              <a:t>H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5157720"/>
            <a:ext cx="79246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Vagabond"/>
              </a:rPr>
              <a:t>The Vikings used local materials to build their ho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Vagabond"/>
              </a:rPr>
              <a:t>They used stone, timber, wattle </a:t>
            </a:r>
            <a:r>
              <a:rPr b="0" lang="en-GB" sz="2400" spc="-1" strike="noStrike">
                <a:solidFill>
                  <a:srgbClr val="ffcc66"/>
                </a:solidFill>
                <a:latin typeface="Vagabond"/>
              </a:rPr>
              <a:t>and</a:t>
            </a:r>
            <a:r>
              <a:rPr b="1" lang="en-GB" sz="2400" spc="-1" strike="noStrike">
                <a:solidFill>
                  <a:srgbClr val="ffcc66"/>
                </a:solidFill>
                <a:latin typeface="Vagabond"/>
              </a:rPr>
              <a:t> daub for w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66"/>
                </a:solidFill>
                <a:latin typeface="Vagabond"/>
              </a:rPr>
              <a:t>They used thatch and turf for roo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74680" y="990720"/>
            <a:ext cx="6597720" cy="40291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agabond"/>
              </a:rPr>
              <a:t>Battles  and Tac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836640"/>
            <a:ext cx="446544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Vikings did not have an official army or nav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Weapons training began at youth in hunting, sports, and rai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The fought mostly on f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A line of young warriors would create a shield wall for better prot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They would either capture or kill their enemies Those captured would become sl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0" y="1484280"/>
            <a:ext cx="4348080" cy="28386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403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agabond"/>
              </a:rPr>
              <a:t>Offensive Weap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1341360"/>
            <a:ext cx="50418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Primarily the spear, sword, and battle-ax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Weapons were for battle and also as a symbol of the warrior’s weal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Weapons were decorated with inlays, twisted wire and other accessories in silver, copper, and bron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The spear was the common weapon with an iron blade 2m to 3m in lengt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219640" y="2421000"/>
            <a:ext cx="1416240" cy="2689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705720" y="1676520"/>
            <a:ext cx="2104920" cy="1523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6705720" y="3429000"/>
            <a:ext cx="2084400" cy="22096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403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agabond"/>
              </a:rPr>
              <a:t>Offensive Weap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1341360"/>
            <a:ext cx="482256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Swords were a sign of high status because they were costly to mak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The blades were usually double edged and up to 90c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Often warriors gave their swords n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516720" y="333360"/>
            <a:ext cx="807840" cy="633564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424656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agabond"/>
              </a:rPr>
              <a:t>Protective Ar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1371600"/>
            <a:ext cx="562284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There were circular shields up to one meter across that were carri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The shield may have been leather cover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Around 1000, the kite shaped shield was introduced to the Vikings to provide more protection for the le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Helmets could be leather or metal- metal more likely for the l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Thick padding absorbed the force of blows or arrow strikes – they often used Reindeer h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372360" y="1197000"/>
            <a:ext cx="2104920" cy="25146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227640" y="386064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Hollywood Helm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765000"/>
            <a:ext cx="208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Viking helm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16920" y="4384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443640" y="4508640"/>
            <a:ext cx="2057400" cy="154944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26920" y="981000"/>
            <a:ext cx="731520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9280" y="147600"/>
            <a:ext cx="8748720" cy="6710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92360" y="1916280"/>
            <a:ext cx="6191280" cy="3935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agabond"/>
              </a:rPr>
              <a:t>Who were the Vik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Vagabond"/>
              </a:rPr>
              <a:t>The word Viking means one who lurks in a “Vik” or bay, in effect, a pir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990000"/>
                </a:solidFill>
                <a:latin typeface="Vagabond"/>
              </a:rPr>
              <a:t>the Viking age lasted for more than 300 years, from the late 8th century to the late 11th centur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Vagabond"/>
              </a:rPr>
              <a:t>The Vikings, or Norse, were a phenomenal race of Scandinavian warriors  (from Norway, Denmark &amp; Sweden) who raided Northern Europe, Eastern Asia, and Eastern North Ameri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4390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agabond"/>
              </a:rPr>
              <a:t>Protective Arm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1280" y="2276640"/>
            <a:ext cx="38862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Vikings wore tunics of chain-mail armor reaching below the wai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Very heavy, and not really eff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They took a long time to make, so were probably expensive and work by chieft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64000" y="1773360"/>
            <a:ext cx="3356280" cy="395424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3a219"/>
                </a:solidFill>
                <a:latin typeface="Vagabond"/>
              </a:rPr>
              <a:t>Conqu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907920"/>
            <a:ext cx="7777080" cy="56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agabond"/>
              </a:rPr>
              <a:t>The first Viking raids were hit- and -run affairs. They sailed into a settlement, attacked and took what they could car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agabond"/>
              </a:rPr>
              <a:t>The British Isles and the Western portions of Europe were the main targ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agabond"/>
              </a:rPr>
              <a:t>During later invasions, the Vikings developed settl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agabond"/>
              </a:rPr>
              <a:t>They conquered much of Northern England in the 9th century, and established a kingdom in Irel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agabond"/>
              </a:rPr>
              <a:t>In return for cash Vikings negotiated peaceful coexistence and conversion to whomever they attacked. Some leaders paid ransom to Viking arm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agabond"/>
              </a:rPr>
              <a:t>In 911 AD Charles III of France gave Normandy (“French for territory of Norsemen”) to the Viking leader Rollos who became a Christi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agab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agabond"/>
              </a:rPr>
              <a:t>Vikings adopted the French language and organized a strong state in Normand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41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agabond"/>
              </a:rPr>
              <a:t>Viking Expl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316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The Vikings reached Iceland – it become a settlement for Norwegians and Da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982 Erik the Red founded Green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Leif Erikson later landed on North Amer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Vinland (Newfoundland) reached about 1000 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924360" y="3575160"/>
            <a:ext cx="5219640" cy="32828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924360" y="260280"/>
            <a:ext cx="5040360" cy="31942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agabond"/>
              </a:rPr>
              <a:t>What happened to the Vik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417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agabond"/>
              </a:rPr>
              <a:t>Vikings became citizens of the places they sett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agabond"/>
              </a:rPr>
              <a:t>As more became Christian, the Norse religion and culture diminis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agabond"/>
              </a:rPr>
              <a:t>Kings instituted taxes and the economy changed – Vikings changed from raiders to tr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agabond"/>
              </a:rPr>
              <a:t>European kingdoms improved defense and increased trade as a result of the Viking 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707000" y="1981080"/>
            <a:ext cx="3692520" cy="41148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572000" y="60958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agabond"/>
              </a:rPr>
              <a:t>A Viking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agabond"/>
              </a:rPr>
              <a:t>The Vikings’ Leg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75610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agabond"/>
              </a:rPr>
              <a:t>Many styles of the Viking ships were adopted by other European pow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cc66"/>
                </a:solidFill>
                <a:latin typeface="Vagabond"/>
              </a:rPr>
              <a:t>Brave navigators sailed west to explore Iceland and Greenland.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cc66"/>
                </a:solidFill>
                <a:latin typeface="Vagabond"/>
              </a:rPr>
              <a:t>Historians have also proved that the Vikings were the first settlers on the American contin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agabond"/>
              </a:rPr>
              <a:t>The jury of English common law was a an outgrowth of Viking ideas about community obligations and sworn investig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agabond"/>
              </a:rPr>
              <a:t>The Vikings’ Leg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56108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agabond"/>
              </a:rPr>
              <a:t>Signs of Viking influence are found in languages, vocabulary, and place-names of the areas they sett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Vagabond"/>
              </a:rPr>
              <a:t>They had an impact on medieval technology and trade, which was an important part of Europe’s develop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agabond"/>
              </a:rPr>
              <a:t>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685800"/>
            <a:ext cx="807696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789 -Vikings begin their attacks on England.80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840 -Viking settlers found the city of Dublin in Irela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862 -Novgorod in Russia is founded by the Rus Viking, Ulri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866 -Danish Vikings establish a kingdom in York, Engla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871 -Alfred the Great becomes king of Wessex; the Danish advance is halted in Englan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872 -Harald I gains control of Norwa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886 -Alfred divides England with the Danes under the Danelaw pac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900 -The Vikings raid along the Mediterranean coa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911 -The Viking chief Rollo is granted land by the Franks and founds Normandy in Fran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941 -Rus Vikings attack Constantinople (Istanbul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981 -Viking leader Erik the Red discovers Greenla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986 -Viking ships sail in Newfoundland wat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995 -Olav I conquers Norway and proclaims it a Christian kingdo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1000 -Christianity reaches Greenland and Icela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1000 -Leif Eriksson, son of Erik the Red, explores the coast of North Amer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1000 -Olav I dies; Norway is ruled by the Da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1002 -Brian Boru defeats the Norse and becomes the king of Irela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1010 -Viking explorer Thorfinn Karlsefni attempts to found a settlement in North Amer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1013 -The Danes conquer England; Æthelred flees to Normand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1015 -Vikings abandon the Vinland settlement on the coast of North Amer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1016 -Olav II regains Norway from the Dan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1016 -The Danes under Knut (Canute) rule Englan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1028 -Knut (Canute), king of England and Denmark, conquers Norwa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1042- Edward the Confessor rules England with the support of the Dan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1066 -Harold Godwinson king of England defeats Harald Hardrada king of Norway at the Battle of Stamford Bridge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NewRomanPSMT"/>
              </a:rPr>
              <a:t>1066 -William duke of Normandy defeats the Saxon king Harold at the Battle of Hasting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Vagabond"/>
              </a:rPr>
              <a:t>Who Were the Vik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2276640"/>
            <a:ext cx="302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0000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Vagabond"/>
              </a:rPr>
              <a:t>Viking raids eventually led to trade and colonization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00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Vagabond"/>
              </a:rPr>
              <a:t>The Viking period describes a whole new age in Europe between about the mid 700 to 1150 AD.</a:t>
            </a:r>
            <a:r>
              <a:rPr b="0" lang="en-US" sz="2400" spc="-1" strike="noStrike">
                <a:solidFill>
                  <a:srgbClr val="3333cc"/>
                </a:solidFill>
                <a:latin typeface="Vagabond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51280" y="3284640"/>
            <a:ext cx="4657680" cy="3166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55640" y="11253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990000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Vagabond"/>
              </a:rPr>
              <a:t>By the end of the first millennium the Vikings   reached North America five hundred years before Colum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99080" y="0"/>
            <a:ext cx="44449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257800" y="5877000"/>
            <a:ext cx="335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Vagabond"/>
              </a:rPr>
              <a:t>An early Icelandic Manuscripts in Old Norse- the Viking langu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1295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How do we know about the Viking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762120"/>
            <a:ext cx="4919760" cy="68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e9dcb9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dcb9"/>
                </a:solidFill>
                <a:latin typeface="Vagabond"/>
              </a:rPr>
              <a:t>Archaeology provides physical evidence of their conquests, settlements, and daily lif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9dcb9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dcb9"/>
                </a:solidFill>
                <a:latin typeface="Vagabond"/>
              </a:rPr>
              <a:t>Many popular ideas of Vikings are 19th century misconceptions - such as having horns on helm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9dcb9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dcb9"/>
                </a:solidFill>
                <a:latin typeface="Vagabond"/>
              </a:rPr>
              <a:t>Few historical records and contemporary written sources exist anym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9dcb9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dcb9"/>
                </a:solidFill>
                <a:latin typeface="Vagabond"/>
              </a:rPr>
              <a:t>Most information about the Viking period is recorded by monks in monasteries giving an account of atta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9dcb9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9dcb9"/>
                </a:solidFill>
                <a:latin typeface="Vagabond"/>
              </a:rPr>
              <a:t>The Vikings were considered heathens for their attacks on monasteries and as a result were portrayed in the worst possible 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agabond"/>
              </a:rPr>
              <a:t>The Sa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1219320"/>
            <a:ext cx="6460920" cy="51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agabond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Vagabond"/>
              </a:rPr>
              <a:t>Saga” is a Norse word meaning ta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agabond"/>
              </a:rPr>
              <a:t>Originally oral storytelling, when recorded they provide all the historical knowledge of the Viking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agabond"/>
              </a:rPr>
              <a:t>There are about forty sagas that include descriptions of historical events and voyages across the North Atlantic from Norway, Greenland and Vinland (Newfoundland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agabond"/>
              </a:rPr>
              <a:t>The sagas also have records of family history such as Erik the Red who founded Greenland, and his son Leif Erickson who discovered North Amer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agabond"/>
              </a:rPr>
              <a:t>The Sagas were compiled in the 13th and 14th century andbased on stories that originated as early as 400 and 500 years before tha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agabond"/>
              </a:rPr>
              <a:t>Archaeology has proven the facts of many sa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agabond"/>
              </a:rPr>
              <a:t>The Ed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133720" cy="1944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4360" y="1676520"/>
            <a:ext cx="50400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Norse oral religious traditions written as poems were collectively named  Edd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Considered folktales of the Vik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Eddas and Sagas were written on vellum-sheepskin or calf ski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Called </a:t>
            </a:r>
            <a:r>
              <a:rPr b="0" lang="en-US" sz="2400" spc="-1" strike="noStrike" u="sng">
                <a:solidFill>
                  <a:srgbClr val="ffcc66"/>
                </a:solidFill>
                <a:uFillTx/>
                <a:latin typeface="Vagabond"/>
              </a:rPr>
              <a:t>vellum</a:t>
            </a:r>
            <a:r>
              <a:rPr b="0" lang="en-US" sz="2400" spc="-1" strike="noStrike">
                <a:solidFill>
                  <a:srgbClr val="ffcc66"/>
                </a:solidFill>
                <a:latin typeface="Vagabond"/>
              </a:rPr>
              <a:t> it is more resistant to rot and preserves much better than paper – this allowed historians to refer to these primary 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agabond"/>
              </a:rPr>
              <a:t>Viking Ru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1676520"/>
            <a:ext cx="460836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cc66"/>
                </a:solidFill>
                <a:latin typeface="Vagabond"/>
              </a:rPr>
              <a:t>Vikings used symbols called 'runes' instead of an alphabe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cc66"/>
                </a:solidFill>
                <a:latin typeface="Vagabond"/>
              </a:rPr>
              <a:t>Runes are made by mostly straight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cc66"/>
                </a:solidFill>
                <a:latin typeface="Vagabond"/>
              </a:rPr>
              <a:t>They carved the runes into wood or stone. It is much easier to carve straight lines than curv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435640" y="1628640"/>
            <a:ext cx="3457440" cy="482472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agabond"/>
              </a:rPr>
              <a:t>Viking Ru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Viking Runes"/>
          <p:cNvPicPr/>
          <p:nvPr/>
        </p:nvPicPr>
        <p:blipFill>
          <a:blip r:embed="rId1"/>
          <a:stretch/>
        </p:blipFill>
        <p:spPr>
          <a:xfrm>
            <a:off x="395280" y="981000"/>
            <a:ext cx="5176800" cy="5472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300720" y="1268280"/>
            <a:ext cx="2303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agabond"/>
              </a:rPr>
              <a:t>Can you spell out your name using ru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agabond"/>
              </a:rPr>
              <a:t>Why did they invade Europ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1484280"/>
            <a:ext cx="67690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dfc08d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c08d"/>
                </a:solidFill>
                <a:latin typeface="Vagabond"/>
              </a:rPr>
              <a:t> </a:t>
            </a:r>
            <a:r>
              <a:rPr b="0" lang="en-US" sz="2400" spc="-1" strike="noStrike">
                <a:solidFill>
                  <a:srgbClr val="dfc08d"/>
                </a:solidFill>
                <a:latin typeface="Vagabond"/>
              </a:rPr>
              <a:t>Raids and loot were not the whole story of the Vik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dfc08d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c08d"/>
                </a:solidFill>
                <a:latin typeface="Vagabond"/>
              </a:rPr>
              <a:t>Coming from mountainous Scandinavia -  land to farm was also a commodity, they wanted more agricultural 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dfc08d"/>
              </a:buClr>
              <a:buFont typeface="Vagab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c08d"/>
                </a:solidFill>
                <a:latin typeface="Vagabond"/>
              </a:rPr>
              <a:t>They were interested in Europe because they saw it as technologically and politically superior to their cul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14400" y="5105520"/>
            <a:ext cx="4191120" cy="1523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791320" y="4572000"/>
            <a:ext cx="2489040" cy="19810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03:09:39Z</dcterms:created>
  <dc:creator>Trial User</dc:creator>
  <dc:description/>
  <dc:language>en-US</dc:language>
  <cp:lastModifiedBy>champagne_n</cp:lastModifiedBy>
  <dcterms:modified xsi:type="dcterms:W3CDTF">2008-12-09T21:16:02Z</dcterms:modified>
  <cp:revision>63</cp:revision>
  <dc:subject/>
  <dc:title>PowerPoint Presentation</dc:title>
</cp:coreProperties>
</file>